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F25F-905A-43F5-8AB2-0B152CA5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BB6-01D7-4BA7-8F0C-8F044AE7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54D4-E89F-4338-A9E3-F6AF2BD0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440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440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E758-A31D-4871-9CCB-11B41D23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3023-CFB5-412A-8A22-A486F37D0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6EA3-C2E4-47CE-B917-F345304C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64CF-A06B-43D8-989B-8685184C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9B85-01D4-459D-8A1B-B8255A34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C5C0-10EF-4856-B5B0-F330B4707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485E-5D0A-41F8-806E-FA4E63CBC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A3BE-B2D2-4BB6-B8E5-72AD5292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CE1-99AB-4BD6-8801-297AF57E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767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43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7079F1-3CFF-4BDC-8E1F-CCECCC4CC1A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1280" y="1492200"/>
            <a:ext cx="3962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1280" y="1187280"/>
            <a:ext cx="5023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2b71"/>
                </a:solidFill>
                <a:latin typeface="Verdana"/>
              </a:rPr>
              <a:t>Pilot Projects for SafeSeaNet – Radar/V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aris 29-06-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68E1-20DE-43FE-8C26-0B359B8DF13A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Objective – To demonstrat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ommon interfaces and protocol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rovision for future exchange of radar data,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Importance to maritime safety, security, counter-pollution, border surveillance and fisheries management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Limited trial perio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Justification &amp; high level objectives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Directive 2002/59/EC Articles 1, 9 and 23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 continuous full radar-based traffic image of all vessels (including non-cooperative targets), meeting the needs of the identified user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o enable integration of the full radar image with SSN and the SSN traffic imag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12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Also - within the framework of “integrated maritime policy” and considering forthcoming developments in SSN 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2707920"/>
            <a:ext cx="777096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e needs of Frontex for border surveillance. (Common interest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Provide information and synergies for Frontex and EUROSUR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Realise integration of services and develop SSN for this purpose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Technical specifications and benefits (1)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cessed data in real time and not raw data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cessing will be carried out by MSs’ own VTS systems,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Full exchange of information on a regional basis (all participants will have a full picture)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No filtering out the at MS level on the basis of geography, vessel type or navigational statu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Simulated or pseudo-AIS messages, with an update rate of 6 minute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EU-centralised collection, storage and distribution by SSN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Unidentified targets at MS level will be included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Technical specifications and benefits (2)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‘</a:t>
            </a: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VTS type’ information will be exchanged with processed video and ship risk-particular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Routinely verifying AIS and other report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plore synergies with MR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plore synergies with VMS system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stablish basis for display and fusion with other sources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Review of results with a view application in other area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ccess rights, security and confidentiality issue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+ Standardisation of services, protocols, interfaces, update rates and message contents.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</cp:lastModifiedBy>
  <dcterms:modified xsi:type="dcterms:W3CDTF">2009-06-28T23:29:45Z</dcterms:modified>
  <cp:revision>268</cp:revision>
  <dc:subject/>
  <dc:title>Slide 1</dc:title>
</cp:coreProperties>
</file>